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6-08-19T19:16:43.619000000" idx="2">
    <p:pos x="4059" y="1010"/>
    <p:text/>
  </p:cm>
</p:cmLst>
</file>

<file path=ppt/comments/comment9.xml><?xml version="1.0" encoding="utf-8"?>
<p:cmLst xmlns:p="http://schemas.openxmlformats.org/presentationml/2006/main">
  <p:cm authorId="0" dt="2016-08-19T19:16:36.556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8534-7D03-414F-B73B-119AA50AA5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2DEE-519E-470F-9E31-5B1C3C9FF9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EEC-13E1-4908-82C7-C2231512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7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土地的面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771640" y="3284640"/>
            <a:ext cx="5832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567160" y="2413080"/>
            <a:ext cx="62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认识公顷和平方千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6"/>
          <p:cNvSpPr/>
          <p:nvPr/>
        </p:nvSpPr>
        <p:spPr>
          <a:xfrm>
            <a:off x="1116000" y="263700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平方千米化成以公顷或平方米为单位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属于高级单位的数化低级单位的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只要用这个数乘相应的进率即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注意小数点移动的位数要和进率对应的进率位数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332000" y="3168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180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1800000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403280" y="2565360"/>
            <a:ext cx="597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台收割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能将一块底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、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平行四边形麦田收割完。照这样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台收割机平均每小时收割小麦多少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7"/>
          <p:cNvSpPr/>
          <p:nvPr/>
        </p:nvSpPr>
        <p:spPr>
          <a:xfrm>
            <a:off x="1403280" y="264960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麦田的形状是一个平行四边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行四边形的底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这块麦田的面积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×40=960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96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这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收割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平均每小时收割多少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016000" y="2622600"/>
            <a:ext cx="51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×40=960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0.9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96÷3=0.32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台收割机平均每小时收割小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9"/>
          <p:cNvSpPr/>
          <p:nvPr/>
        </p:nvSpPr>
        <p:spPr>
          <a:xfrm>
            <a:off x="1763640" y="170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 rot="18297600">
            <a:off x="530496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0"/>
          <p:cNvSpPr/>
          <p:nvPr/>
        </p:nvSpPr>
        <p:spPr>
          <a:xfrm>
            <a:off x="3851280" y="2781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9"/>
          <p:cNvSpPr/>
          <p:nvPr/>
        </p:nvSpPr>
        <p:spPr>
          <a:xfrm>
            <a:off x="1494000" y="2529000"/>
            <a:ext cx="61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误地迁移了平方米、平方分米、平方厘米之间的进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忽略了面积单位中的“平方米”和“公顷”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和公顷之间的进率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8880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9"/>
          <p:cNvSpPr/>
          <p:nvPr/>
        </p:nvSpPr>
        <p:spPr>
          <a:xfrm>
            <a:off x="1763640" y="1700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5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5"/>
          <p:cNvSpPr/>
          <p:nvPr/>
        </p:nvSpPr>
        <p:spPr>
          <a:xfrm rot="18297600">
            <a:off x="616896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对象 17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" name="矩形 20"/>
          <p:cNvSpPr/>
          <p:nvPr/>
        </p:nvSpPr>
        <p:spPr>
          <a:xfrm rot="18297600">
            <a:off x="6313320" y="26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050920" y="378936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邻两个面积单位间的进率都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3841920" y="27766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4"/>
          <p:cNvSpPr/>
          <p:nvPr/>
        </p:nvSpPr>
        <p:spPr>
          <a:xfrm>
            <a:off x="4067280" y="4851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1042920" y="1557360"/>
            <a:ext cx="626580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（     ）里填上合适的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2556000" y="2421000"/>
            <a:ext cx="171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同侧圆角矩形 1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3635280" y="306864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746520" y="3719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776680" y="4313160"/>
            <a:ext cx="96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262320" y="5013360"/>
            <a:ext cx="203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4000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4064040" y="5567400"/>
            <a:ext cx="108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6.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2"/>
          <p:cNvSpPr/>
          <p:nvPr/>
        </p:nvSpPr>
        <p:spPr>
          <a:xfrm>
            <a:off x="1116000" y="1933560"/>
            <a:ext cx="6273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○里填上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3492360" y="5013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9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492360" y="429264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436920" y="35352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198520" y="28526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41320" y="41734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一步体会数学与生活的密切联系，培养学生的空间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26920" y="1773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平方千米是比公顷还大的土地面积单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860400" y="29732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解决有关土地面积及面积单位换算的简单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156360" y="839880"/>
            <a:ext cx="2519280" cy="1579320"/>
          </a:xfrm>
          <a:prstGeom prst="rect">
            <a:avLst/>
          </a:prstGeom>
          <a:ln w="0">
            <a:noFill/>
          </a:ln>
        </p:spPr>
      </p:pic>
      <p:sp>
        <p:nvSpPr>
          <p:cNvPr id="21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55640" y="187632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题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的画“√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的画“✕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足球场的面积大约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和平方千米是计量物体或距离长短的单位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块菜地的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边长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正方形土地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、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长方形土地面积也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871640" y="268128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979640" y="349236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927080" y="436572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951200" y="5729400"/>
            <a:ext cx="6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861840" y="1773360"/>
            <a:ext cx="7239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新建铁路全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基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条铁路的占地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0.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6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操场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6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4446720" y="3213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同侧圆角矩形 2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3"/>
          <p:cNvSpPr/>
          <p:nvPr/>
        </p:nvSpPr>
        <p:spPr>
          <a:xfrm>
            <a:off x="6732720" y="443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971640" y="1700280"/>
            <a:ext cx="7416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从小到大的顺序排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23"/>
          <p:cNvGrpSpPr/>
          <p:nvPr/>
        </p:nvGrpSpPr>
        <p:grpSpPr>
          <a:xfrm>
            <a:off x="838080" y="4869000"/>
            <a:ext cx="4454280" cy="1796760"/>
            <a:chOff x="838080" y="4869000"/>
            <a:chExt cx="4454280" cy="1796760"/>
          </a:xfrm>
        </p:grpSpPr>
        <p:pic>
          <p:nvPicPr>
            <p:cNvPr id="228" name="Picture 21" descr="1"/>
            <p:cNvPicPr/>
            <p:nvPr/>
          </p:nvPicPr>
          <p:blipFill>
            <a:blip r:embed="rId1"/>
            <a:stretch/>
          </p:blipFill>
          <p:spPr>
            <a:xfrm>
              <a:off x="838080" y="4869000"/>
              <a:ext cx="113328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27"/>
            <p:cNvSpPr/>
            <p:nvPr/>
          </p:nvSpPr>
          <p:spPr>
            <a:xfrm>
              <a:off x="1704600" y="4924440"/>
              <a:ext cx="3587760" cy="496440"/>
            </a:xfrm>
            <a:prstGeom prst="wedgeRoundRectCallout">
              <a:avLst>
                <a:gd name="adj1" fmla="val -53055"/>
                <a:gd name="adj2" fmla="val 4927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把单位统一，再排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同侧圆角矩形 14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035000" y="3583080"/>
            <a:ext cx="641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＜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.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＜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36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AutoShape 27"/>
          <p:cNvSpPr/>
          <p:nvPr/>
        </p:nvSpPr>
        <p:spPr>
          <a:xfrm>
            <a:off x="6012000" y="1413000"/>
            <a:ext cx="2627280" cy="1511280"/>
          </a:xfrm>
          <a:prstGeom prst="wedgeRoundRectCallout">
            <a:avLst>
              <a:gd name="adj1" fmla="val -72564"/>
              <a:gd name="adj2" fmla="val -769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方千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0000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平方米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0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40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矩形 21"/>
          <p:cNvSpPr/>
          <p:nvPr/>
        </p:nvSpPr>
        <p:spPr>
          <a:xfrm>
            <a:off x="925560" y="3859200"/>
            <a:ext cx="7381800" cy="47484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丈量土地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般用米作单位来丈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算出面积是多少平方米后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换算成公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5"/>
          <p:cNvSpPr/>
          <p:nvPr/>
        </p:nvSpPr>
        <p:spPr>
          <a:xfrm>
            <a:off x="835200" y="5013360"/>
            <a:ext cx="7453080" cy="855720"/>
          </a:xfrm>
          <a:prstGeom prst="rect">
            <a:avLst/>
          </a:prstGeom>
          <a:solidFill>
            <a:srgbClr val="558ed5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平方米换算成公顷是由低级单位转化为高级单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以进率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0;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可以根据平方米与公顷的进率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接把小数点向左移动四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71640" y="256536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张邮票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桌面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教室地面的面积约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         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203800" y="2565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厘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494320" y="339552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分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34080" y="4227480"/>
            <a:ext cx="17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平方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258920" y="1700280"/>
            <a:ext cx="38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上合适的单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01880" y="1141560"/>
            <a:ext cx="1657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读一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195120" y="5181480"/>
            <a:ext cx="7329600" cy="1279800"/>
            <a:chOff x="195120" y="5181480"/>
            <a:chExt cx="7329600" cy="1279800"/>
          </a:xfrm>
        </p:grpSpPr>
        <p:sp>
          <p:nvSpPr>
            <p:cNvPr id="68" name="AutoShape 27"/>
            <p:cNvSpPr/>
            <p:nvPr/>
          </p:nvSpPr>
          <p:spPr>
            <a:xfrm>
              <a:off x="2052000" y="5745600"/>
              <a:ext cx="5472720" cy="575640"/>
            </a:xfrm>
            <a:prstGeom prst="wedgeRoundRectCallout">
              <a:avLst>
                <a:gd name="adj1" fmla="val -58287"/>
                <a:gd name="adj2" fmla="val -27972"/>
                <a:gd name="adj3" fmla="val 16667"/>
              </a:avLst>
            </a:prstGeom>
            <a:solidFill>
              <a:srgbClr val="ccecff"/>
            </a:solidFill>
            <a:ln w="28440">
              <a:solidFill>
                <a:srgbClr val="3399ff"/>
              </a:solidFill>
              <a:miter/>
            </a:ln>
            <a:effectLst>
              <a:outerShdw dist="53966" dir="2700000" blurRad="0" rotWithShape="0">
                <a:srgbClr val="ccec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上面这段报道中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了解到哪些信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195120" y="5181480"/>
              <a:ext cx="152388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C:\Users\Administrator\AppData\Roaming\Tencent\Users\781547643\QQ\WinTemp\RichOle\M4RO}RWS6W@L1YD0B9V[VUE.png"/>
          <p:cNvPicPr/>
          <p:nvPr/>
        </p:nvPicPr>
        <p:blipFill>
          <a:blip r:embed="rId2"/>
          <a:stretch/>
        </p:blipFill>
        <p:spPr>
          <a:xfrm>
            <a:off x="3132000" y="1700280"/>
            <a:ext cx="6581880" cy="4038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7"/>
          <p:cNvGrpSpPr/>
          <p:nvPr/>
        </p:nvGrpSpPr>
        <p:grpSpPr>
          <a:xfrm>
            <a:off x="5043600" y="558720"/>
            <a:ext cx="3987720" cy="1279440"/>
            <a:chOff x="5043600" y="558720"/>
            <a:chExt cx="3987720" cy="1279440"/>
          </a:xfrm>
        </p:grpSpPr>
        <p:pic>
          <p:nvPicPr>
            <p:cNvPr id="7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507440" y="558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27"/>
            <p:cNvSpPr/>
            <p:nvPr/>
          </p:nvSpPr>
          <p:spPr>
            <a:xfrm>
              <a:off x="5043600" y="1068120"/>
              <a:ext cx="2411280" cy="503280"/>
            </a:xfrm>
            <a:prstGeom prst="wedgeRoundRectCallout">
              <a:avLst>
                <a:gd name="adj1" fmla="val 55726"/>
                <a:gd name="adj2" fmla="val 1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多大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矩形 28" descr=""/>
          <p:cNvPicPr/>
          <p:nvPr/>
        </p:nvPicPr>
        <p:blipFill>
          <a:blip r:embed="rId2"/>
          <a:stretch/>
        </p:blipFill>
        <p:spPr>
          <a:xfrm>
            <a:off x="3913200" y="4595760"/>
            <a:ext cx="4670280" cy="46368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2"/>
          <p:cNvGrpSpPr/>
          <p:nvPr/>
        </p:nvGrpSpPr>
        <p:grpSpPr>
          <a:xfrm>
            <a:off x="299880" y="2770200"/>
            <a:ext cx="4127760" cy="2120760"/>
            <a:chOff x="299880" y="2770200"/>
            <a:chExt cx="4127760" cy="2120760"/>
          </a:xfrm>
        </p:grpSpPr>
        <p:sp>
          <p:nvSpPr>
            <p:cNvPr id="79" name="AutoShape 27"/>
            <p:cNvSpPr/>
            <p:nvPr/>
          </p:nvSpPr>
          <p:spPr>
            <a:xfrm>
              <a:off x="1476360" y="2770200"/>
              <a:ext cx="2951280" cy="1019160"/>
            </a:xfrm>
            <a:prstGeom prst="wedgeRoundRectCallout">
              <a:avLst>
                <a:gd name="adj1" fmla="val -60245"/>
                <a:gd name="adj2" fmla="val 15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边长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的正方形的面积是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公顷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Picture 65" descr="107"/>
            <p:cNvPicPr/>
            <p:nvPr/>
          </p:nvPicPr>
          <p:blipFill>
            <a:blip r:embed="rId3"/>
            <a:stretch/>
          </p:blipFill>
          <p:spPr>
            <a:xfrm>
              <a:off x="299880" y="309060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3"/>
          <p:cNvGrpSpPr/>
          <p:nvPr/>
        </p:nvGrpSpPr>
        <p:grpSpPr>
          <a:xfrm>
            <a:off x="633240" y="5059440"/>
            <a:ext cx="4864320" cy="1797120"/>
            <a:chOff x="633240" y="5059440"/>
            <a:chExt cx="4864320" cy="1797120"/>
          </a:xfrm>
        </p:grpSpPr>
        <p:pic>
          <p:nvPicPr>
            <p:cNvPr id="82" name="Picture 38" descr="1"/>
            <p:cNvPicPr/>
            <p:nvPr/>
          </p:nvPicPr>
          <p:blipFill>
            <a:blip r:embed="rId4"/>
            <a:stretch/>
          </p:blipFill>
          <p:spPr>
            <a:xfrm>
              <a:off x="633240" y="505944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AutoShape 27"/>
            <p:cNvSpPr/>
            <p:nvPr/>
          </p:nvSpPr>
          <p:spPr>
            <a:xfrm>
              <a:off x="1536480" y="5092560"/>
              <a:ext cx="3961080" cy="496440"/>
            </a:xfrm>
            <a:prstGeom prst="wedgeRoundRectCallout">
              <a:avLst>
                <a:gd name="adj1" fmla="val -53203"/>
                <a:gd name="adj2" fmla="val 291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等于多少平方米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2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3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428840" y="1838160"/>
            <a:ext cx="6330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测量土地面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常用“平方米”和“公顷”作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C:\Users\Administrator\AppData\Roaming\Tencent\Users\781547643\QQ\WinTemp\RichOle\6N%O_I@1DS_~PXCD4NOB)]9.png"/>
          <p:cNvPicPr/>
          <p:nvPr/>
        </p:nvPicPr>
        <p:blipFill>
          <a:blip r:embed="rId5"/>
          <a:stretch/>
        </p:blipFill>
        <p:spPr>
          <a:xfrm>
            <a:off x="4716360" y="2344680"/>
            <a:ext cx="2116080" cy="2184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771640" y="5781600"/>
            <a:ext cx="3888000" cy="581400"/>
          </a:xfrm>
          <a:prstGeom prst="rect">
            <a:avLst/>
          </a:prstGeom>
          <a:solidFill>
            <a:srgbClr val="4f81bd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4"/>
          <p:cNvGrpSpPr/>
          <p:nvPr/>
        </p:nvGrpSpPr>
        <p:grpSpPr>
          <a:xfrm>
            <a:off x="4572000" y="793800"/>
            <a:ext cx="4395960" cy="1920960"/>
            <a:chOff x="4572000" y="793800"/>
            <a:chExt cx="4395960" cy="1920960"/>
          </a:xfrm>
        </p:grpSpPr>
        <p:pic>
          <p:nvPicPr>
            <p:cNvPr id="92" name="Picture 8" descr="未标题-3"/>
            <p:cNvPicPr/>
            <p:nvPr/>
          </p:nvPicPr>
          <p:blipFill>
            <a:blip r:embed="rId1"/>
            <a:stretch/>
          </p:blipFill>
          <p:spPr>
            <a:xfrm>
              <a:off x="7380360" y="793800"/>
              <a:ext cx="158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27"/>
            <p:cNvSpPr/>
            <p:nvPr/>
          </p:nvSpPr>
          <p:spPr>
            <a:xfrm>
              <a:off x="4572000" y="907920"/>
              <a:ext cx="2822400" cy="496440"/>
            </a:xfrm>
            <a:prstGeom prst="wedgeRoundRectCallout">
              <a:avLst>
                <a:gd name="adj1" fmla="val 59944"/>
                <a:gd name="adj2" fmla="val 1681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足球场的面积大约有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826920" y="4813200"/>
            <a:ext cx="6335640" cy="1800360"/>
            <a:chOff x="826920" y="4813200"/>
            <a:chExt cx="6335640" cy="1800360"/>
          </a:xfrm>
        </p:grpSpPr>
        <p:sp>
          <p:nvSpPr>
            <p:cNvPr id="95" name="AutoShape 27"/>
            <p:cNvSpPr/>
            <p:nvPr/>
          </p:nvSpPr>
          <p:spPr>
            <a:xfrm>
              <a:off x="2266560" y="4813200"/>
              <a:ext cx="4896000" cy="874800"/>
            </a:xfrm>
            <a:prstGeom prst="wedgeRoundRectCallout">
              <a:avLst>
                <a:gd name="adj1" fmla="val -54865"/>
                <a:gd name="adj2" fmla="val -62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估计一下，学校的占地面积够不够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公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22" descr="107"/>
            <p:cNvPicPr/>
            <p:nvPr/>
          </p:nvPicPr>
          <p:blipFill>
            <a:blip r:embed="rId2"/>
            <a:stretch/>
          </p:blipFill>
          <p:spPr>
            <a:xfrm>
              <a:off x="826920" y="481320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同侧圆角矩形 1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" descr="C:\Users\Administrator\AppData\Roaming\Tencent\Users\781547643\QQ\WinTemp\RichOle\KG8E$~NM5]67XYIUPS{UT5V.png"/>
          <p:cNvPicPr/>
          <p:nvPr/>
        </p:nvPicPr>
        <p:blipFill>
          <a:blip r:embed="rId3"/>
          <a:stretch/>
        </p:blipFill>
        <p:spPr>
          <a:xfrm>
            <a:off x="1774800" y="1947960"/>
            <a:ext cx="5105520" cy="255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8"/>
          <p:cNvSpPr/>
          <p:nvPr/>
        </p:nvSpPr>
        <p:spPr>
          <a:xfrm>
            <a:off x="771480" y="5229360"/>
            <a:ext cx="7920000" cy="5205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“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方千米”是比“公顷”还大的面积单位，计算较大的土地面积一般用“平方千米”作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11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12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801880" y="1141560"/>
            <a:ext cx="16574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读一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Users\Administrator\AppData\Roaming\Tencent\Users\781547643\QQ\WinTemp\RichOle\2D[0_}`3K`VL5T{4CB_V(@M.png"/>
          <p:cNvPicPr/>
          <p:nvPr/>
        </p:nvPicPr>
        <p:blipFill>
          <a:blip r:embed="rId1"/>
          <a:srcRect l="0" t="0" r="55164" b="0"/>
          <a:stretch/>
        </p:blipFill>
        <p:spPr>
          <a:xfrm>
            <a:off x="1112760" y="1770120"/>
            <a:ext cx="2852640" cy="325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C:\Users\Administrator\AppData\Roaming\Tencent\Users\781547643\QQ\WinTemp\RichOle\2D[0_}`3K`VL5T{4CB_V(@M.png"/>
          <p:cNvPicPr/>
          <p:nvPr/>
        </p:nvPicPr>
        <p:blipFill>
          <a:blip r:embed="rId2"/>
          <a:srcRect l="52829" t="0" r="0" b="0"/>
          <a:stretch/>
        </p:blipFill>
        <p:spPr>
          <a:xfrm>
            <a:off x="4859280" y="1666800"/>
            <a:ext cx="30974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51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同侧圆角矩形 6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同侧圆角矩形 6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915840" y="5805360"/>
            <a:ext cx="6411960" cy="520560"/>
          </a:xfrm>
          <a:prstGeom prst="rect">
            <a:avLst/>
          </a:prstGeom>
          <a:solidFill>
            <a:srgbClr val="7030a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00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324000" y="1596960"/>
            <a:ext cx="4262400" cy="1825560"/>
            <a:chOff x="324000" y="1596960"/>
            <a:chExt cx="4262400" cy="1825560"/>
          </a:xfrm>
        </p:grpSpPr>
        <p:sp>
          <p:nvSpPr>
            <p:cNvPr id="117" name="AutoShape 27"/>
            <p:cNvSpPr/>
            <p:nvPr/>
          </p:nvSpPr>
          <p:spPr>
            <a:xfrm>
              <a:off x="1635840" y="1596960"/>
              <a:ext cx="2950560" cy="1019520"/>
            </a:xfrm>
            <a:prstGeom prst="wedgeRoundRectCallout">
              <a:avLst>
                <a:gd name="adj1" fmla="val -60245"/>
                <a:gd name="adj2" fmla="val 15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国的陆地面积大约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6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万平方千米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Picture 65" descr="107"/>
            <p:cNvPicPr/>
            <p:nvPr/>
          </p:nvPicPr>
          <p:blipFill>
            <a:blip r:embed="rId1"/>
            <a:stretch/>
          </p:blipFill>
          <p:spPr>
            <a:xfrm>
              <a:off x="324000" y="1621800"/>
              <a:ext cx="1800000" cy="180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37"/>
          <p:cNvGrpSpPr/>
          <p:nvPr/>
        </p:nvGrpSpPr>
        <p:grpSpPr>
          <a:xfrm>
            <a:off x="4789440" y="558720"/>
            <a:ext cx="4243320" cy="1279440"/>
            <a:chOff x="4789440" y="558720"/>
            <a:chExt cx="4243320" cy="1279440"/>
          </a:xfrm>
        </p:grpSpPr>
        <p:pic>
          <p:nvPicPr>
            <p:cNvPr id="120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508880" y="558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4789440" y="1068120"/>
              <a:ext cx="2666880" cy="503280"/>
            </a:xfrm>
            <a:prstGeom prst="wedgeRoundRectCallout">
              <a:avLst>
                <a:gd name="adj1" fmla="val 55726"/>
                <a:gd name="adj2" fmla="val 168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千米多大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组合 2"/>
          <p:cNvGrpSpPr/>
          <p:nvPr/>
        </p:nvGrpSpPr>
        <p:grpSpPr>
          <a:xfrm>
            <a:off x="468360" y="3332160"/>
            <a:ext cx="4606920" cy="1965240"/>
            <a:chOff x="468360" y="3332160"/>
            <a:chExt cx="4606920" cy="1965240"/>
          </a:xfrm>
        </p:grpSpPr>
        <p:pic>
          <p:nvPicPr>
            <p:cNvPr id="123" name="AutoShape 27" descr=""/>
            <p:cNvPicPr/>
            <p:nvPr/>
          </p:nvPicPr>
          <p:blipFill>
            <a:blip r:embed="rId3"/>
            <a:stretch/>
          </p:blipFill>
          <p:spPr>
            <a:xfrm>
              <a:off x="1191960" y="3332160"/>
              <a:ext cx="3883320" cy="13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8" descr="1"/>
            <p:cNvPicPr/>
            <p:nvPr/>
          </p:nvPicPr>
          <p:blipFill>
            <a:blip r:embed="rId4"/>
            <a:stretch/>
          </p:blipFill>
          <p:spPr>
            <a:xfrm>
              <a:off x="468360" y="3504240"/>
              <a:ext cx="1056960" cy="179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" descr="C:\Users\Administrator\AppData\Roaming\Tencent\Users\781547643\QQ\WinTemp\RichOle\5BPQV7HM0}T3A$565F774SX.png"/>
          <p:cNvPicPr/>
          <p:nvPr/>
        </p:nvPicPr>
        <p:blipFill>
          <a:blip r:embed="rId5"/>
          <a:stretch/>
        </p:blipFill>
        <p:spPr>
          <a:xfrm>
            <a:off x="5254560" y="1690560"/>
            <a:ext cx="2616120" cy="27082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24"/>
          <p:cNvGrpSpPr/>
          <p:nvPr/>
        </p:nvGrpSpPr>
        <p:grpSpPr>
          <a:xfrm>
            <a:off x="3843360" y="4308480"/>
            <a:ext cx="5312880" cy="1920960"/>
            <a:chOff x="3843360" y="4308480"/>
            <a:chExt cx="5312880" cy="1920960"/>
          </a:xfrm>
        </p:grpSpPr>
        <p:pic>
          <p:nvPicPr>
            <p:cNvPr id="127" name="Picture 8" descr="未标题-3"/>
            <p:cNvPicPr/>
            <p:nvPr/>
          </p:nvPicPr>
          <p:blipFill>
            <a:blip r:embed="rId6"/>
            <a:stretch/>
          </p:blipFill>
          <p:spPr>
            <a:xfrm>
              <a:off x="7568640" y="4308480"/>
              <a:ext cx="1587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3843360" y="4672080"/>
              <a:ext cx="3725280" cy="496440"/>
            </a:xfrm>
            <a:prstGeom prst="wedgeRoundRectCallout">
              <a:avLst>
                <a:gd name="adj1" fmla="val 59949"/>
                <a:gd name="adj2" fmla="val -12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千米也叫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平方公里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1685880" y="5183280"/>
            <a:ext cx="49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×1000=1000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258920" y="314172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6:57Z</dcterms:modified>
  <cp:revision>266</cp:revision>
  <dc:subject>www.xkb1.com</dc:subject>
  <dc:title>www.xkb1.com</dc:title>
</cp:coreProperties>
</file>